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gif" ContentType="image/gif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7E95-AD8B-475E-883D-8E4933DB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3D33-36EF-48E5-885C-52CF9B2F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CF7D-CD94-4ADF-9E9B-E4F1037D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E55-B6CE-470F-9CCD-0F491EDC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FC21-F219-4C4B-A069-7816947F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6BB3-EE7D-4C86-BE44-757619C4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74AF-A7E3-4F06-8D12-FCC19258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D76C-6363-4A4E-824B-0EB86225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CE31-0AA8-42C1-8105-057D9E6E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DE3F-32BC-41DB-A982-259EEFEF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67D9-F48B-47C5-995E-DABA5AD4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9D2F-67B1-4D1C-9ED8-54F87BB7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08F7-CF58-40D9-8012-C57E8F9D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C89E-3E24-4E0D-BC29-0C4DB626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FA51-C598-4449-B448-C52CA423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5DB3-AA0A-4447-BF2A-8CF44A44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4F8E-21AB-427F-915E-D34FC45A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605-2737-49DB-9668-B959EA97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EC2B-CE78-401E-9159-BCCC2E3F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838-7C58-42A9-B6E7-85148883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370-4DDA-4B9F-94D4-0CE564AF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3B2-16D6-43B4-B818-18644BD0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0250-D662-40B1-BE8F-D470F490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AAA-AC0F-4FC5-8445-D7562DE7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AAA0-2062-41C2-A6A9-56CD8695869D}" type="slidenum">
              <a:rPr b="0" lang="en-US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8E82-349E-4A08-8A72-85A08AB38DFD}" type="slidenum">
              <a:rPr b="0" lang="en-US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crobelibrary.org/images/tterry/anim/phago053.html" TargetMode="External"/><Relationship Id="rId3" Type="http://schemas.openxmlformats.org/officeDocument/2006/relationships/image" Target="../media/image9.gi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y the end of the lesson you should be able to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22747" r="0" b="0"/>
          <a:stretch/>
        </p:blipFill>
        <p:spPr>
          <a:xfrm>
            <a:off x="1619280" y="1413000"/>
            <a:ext cx="5832360" cy="4506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>
            <a:off x="684360" y="3573360"/>
            <a:ext cx="1439640" cy="28728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              </a:t>
            </a: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Anti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070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ll cells have surface markers called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gen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body can recognise these as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(foreign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1" name="" descr="Bacteria covered in antigens"/>
          <p:cNvPicPr/>
          <p:nvPr/>
        </p:nvPicPr>
        <p:blipFill>
          <a:blip r:embed="rId2"/>
          <a:stretch/>
        </p:blipFill>
        <p:spPr>
          <a:xfrm>
            <a:off x="5651640" y="321300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0" t="0" r="57708" b="56708"/>
          <a:stretch/>
        </p:blipFill>
        <p:spPr>
          <a:xfrm>
            <a:off x="5724360" y="907920"/>
            <a:ext cx="208944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cc"/>
                </a:solidFill>
                <a:latin typeface="Comic Sans MS"/>
              </a:rPr>
              <a:t>Specific response</a:t>
            </a:r>
            <a:endParaRPr b="0" lang="en-US" sz="4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Lymphocytes detect presence of foreign antigen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timulated to produce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pecific proteins called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435640" y="2492280"/>
          <a:ext cx="291636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2492280"/>
                    <a:ext cx="29163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ntibodies combine with their specific antigen (like a lock and key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is renders the pathogen harmles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primary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63640" y="1773360"/>
            <a:ext cx="5472360" cy="2952720"/>
            <a:chOff x="1763640" y="1773360"/>
            <a:chExt cx="5472360" cy="295272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1763640" y="1773360"/>
              <a:ext cx="54723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050000" y="3147120"/>
              <a:ext cx="554040" cy="2059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579600"/>
            <a:ext cx="80010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it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2050560"/>
            <a:ext cx="80010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 the bodies ability to resist infection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can be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natural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acquired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ological memor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after an infection is fought off some lymphocytes become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memory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cells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f same pathogen returns memory cells stimulate the produce the specific antibody very rapidly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the infection is fought off before symptoms appear =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secondary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vaccines can stimulate same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an you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Arial"/>
              </a:rPr>
              <a:t>This powerpoint was kindly donated to www.worldofteaching.com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First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7280" y="3136680"/>
            <a:ext cx="217980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99"/>
                </a:solidFill>
                <a:latin typeface="Comic Sans MS"/>
              </a:rPr>
              <a:t>    </a:t>
            </a:r>
            <a:r>
              <a:rPr b="1" lang="en-GB" sz="2100" spc="-1" strike="noStrike" u="sng">
                <a:solidFill>
                  <a:srgbClr val="3333ff"/>
                </a:solidFill>
                <a:uFillTx/>
                <a:latin typeface="Comic Sans MS"/>
              </a:rPr>
              <a:t>skin</a:t>
            </a:r>
            <a:r>
              <a:rPr b="0" lang="en-GB" sz="2100" spc="-1" strike="noStrike">
                <a:solidFill>
                  <a:srgbClr val="3333ff"/>
                </a:solidFill>
                <a:latin typeface="Comic Sans MS"/>
              </a:rPr>
              <a:t> prevents entry</a:t>
            </a: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700360" y="1916280"/>
            <a:ext cx="3852720" cy="4032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435640" y="119700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tear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antibacterial               enzym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126828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aliv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antibacterial               enzym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4365720"/>
            <a:ext cx="25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tomach acid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low pH kills harmful microb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72360" y="27082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ff"/>
                </a:solidFill>
                <a:uFillTx/>
                <a:latin typeface="Comic Sans MS"/>
              </a:rPr>
              <a:t>mucus</a:t>
            </a:r>
            <a:r>
              <a:rPr b="0" lang="en-GB" sz="2400" spc="-1" strike="noStrike">
                <a:solidFill>
                  <a:srgbClr val="3333ff"/>
                </a:solidFill>
                <a:latin typeface="Comic Sans MS"/>
              </a:rPr>
              <a:t> linings traps dirt and microb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96000" y="450864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“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good” gut bacteri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out compete bad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979640" y="2852280"/>
            <a:ext cx="1944720" cy="505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571640" y="2565360"/>
            <a:ext cx="1800360" cy="503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716000" y="1557360"/>
            <a:ext cx="647640" cy="647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1916280"/>
            <a:ext cx="936720" cy="433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48000" y="3357720"/>
            <a:ext cx="1295280" cy="1079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642920" y="3573000"/>
            <a:ext cx="1081080" cy="1150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atho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disease causing micro-organism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bacteria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virus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fungi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otozoa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arasite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ion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651640" y="1916280"/>
            <a:ext cx="2544480" cy="1839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564000" y="3068640"/>
            <a:ext cx="1619280" cy="241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0" t="3780" r="0" b="4725"/>
          <a:stretch/>
        </p:blipFill>
        <p:spPr>
          <a:xfrm>
            <a:off x="5796000" y="4230720"/>
            <a:ext cx="2663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Second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5986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volves white blood 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nvading pathogens are targeted by macrophage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lymphocytes produce chemicals called antibodies that target specific pathogen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0" r="6890" b="0"/>
          <a:stretch/>
        </p:blipFill>
        <p:spPr>
          <a:xfrm>
            <a:off x="6012000" y="2276640"/>
            <a:ext cx="2447640" cy="1804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443640" y="4292640"/>
            <a:ext cx="21384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0" r="0" b="34121"/>
          <a:stretch/>
        </p:blipFill>
        <p:spPr>
          <a:xfrm>
            <a:off x="1066680" y="1752480"/>
            <a:ext cx="6264360" cy="4127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 flipV="1">
            <a:off x="6372360" y="2852280"/>
            <a:ext cx="2016000" cy="64764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Monocytes and macrophage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Provide a non-specific response to infection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Comic Sans MS"/>
                <a:hlinkClick r:id="rId2"/>
              </a:rPr>
              <a:t>http://www.microbelibrary.org/images/tterry/anim/phago053.html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486400" y="3429000"/>
            <a:ext cx="2482920" cy="2579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838080" y="3809880"/>
            <a:ext cx="329112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48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52160" indent="-4521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Stages in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detects chemicals released by a foreign intruder (e.g. bacteria)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moves up the concentration gradient towards the intruder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phagocyte adheres to the foreign cell and engulfs it in a vacuole by an infolding of the cell membran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ysosomes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(organelles which are rich in digestive enzymes &amp; found in the phagocytes cytoplasm) fuse with the vacuole &amp; release their contents into it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756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31240" indent="-3877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65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bacterium is digested by the enzymes, and the breakdown products are absorbed by the phagocyt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During infection, hundreds of phagocytes are needed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us is dead bacteria and phagocytes!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link to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u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36800" y="1846080"/>
            <a:ext cx="39258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An accumulation of : -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phagocyt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stroyed bacteria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cell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he immune system phagocytosis</dc:description>
  <cp:keywords>the immune system phagocytosis</cp:keywords>
  <dc:language>en-US</dc:language>
  <cp:lastModifiedBy>NicholasHardy</cp:lastModifiedBy>
  <dcterms:modified xsi:type="dcterms:W3CDTF">2009-09-17T03:16:18Z</dcterms:modified>
  <cp:revision>4</cp:revision>
  <dc:subject>the immune system phagocytosis</dc:subject>
  <dc:title>the immune system phagocytosis antibody fun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